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411-DB68-4692-ACA5-71051650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1A0-CEC6-4C55-8C01-409B768D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70E-3EAF-458C-8FFB-F7744304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562-09AA-4DB9-87AE-3D006154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D587-26E1-4AB3-8E93-54A25CB6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83B2-401E-45ED-BD11-A01EEBB8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29E8-499C-4271-99E6-2FB4C56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271F-8E68-412E-B568-9C0237AC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402D-3D01-4D03-ACF2-63CDAFCC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A7B4-A7FF-4FD3-9026-DDA5E3D7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9220-8AAA-4C41-B1F0-B5E8416D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091-EB22-4F52-B81F-0887CE2B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D786-D45A-4B73-BBAE-58FC9CA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F08C-2F56-451F-9B73-0C63495D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26AE-4E1D-4B2B-9A98-9BCA36EA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7E68-5AE9-4EBE-8FB5-09A0F592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C70F-8D48-4C46-8517-D6B57CB3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694-9CE7-4570-988E-A17FC4A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83D-5174-45C1-9FA5-1F0DC6F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50D-7F81-4E42-A44B-55C01153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F48-BA34-49BA-AB64-CB0603C8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419-F31E-4E67-A746-7F1672BF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3C7-149F-42CB-83AA-910860E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68A-7A82-409A-8D26-D25D6BED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FD10-A5BF-4EA6-9EA9-BABB9238C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0F0E-29FB-4004-B32B-4385F877A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R, WE WOULD SEE  JESUS”</a:t>
            </a:r>
            <a:br>
              <a:rPr sz="44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OF CHRIST, PART 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0N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6:22 - 7:1; MARK 7:24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70-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0C92-9AD0-4B4C-A670-FAF00BA47F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eart of M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first asks them about honoring father and m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, what defiles a man?  What follows is answer to hand-washing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 are “blind leaders of the bli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B97-C8A8-4CE9-B65C-61F49D154C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SECOND RETIREMENT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d His disciples leave Israel proper and go into vicinity of Tyre and Sid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tile woman with a demon-possessed young daughter came to Jes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ys “I was not sent except to the lost sheep of the house of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9AF-81E3-438E-BEED-7328BDFB9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Gentile Woman Needs Hel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worships and says “Lord, help m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s “It is not good to take the children’s bread and cast it to the little  do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replies “True, Lord, yet the little dogs eat the crumbs which fall from the master’s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EB0-CD67-4220-A83F-DA1AEE0D1A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eat Fai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“O woman great is your faith let it be to you as you desi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mon left her daugh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s exchange, Jesus was not being cruel nor unfeeling or insulting, He was making the point that His mission was among the Jew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seemed to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879-E47A-49EA-BA51-DA7D9AAD38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Life of Chr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373392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40384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283-F800-486B-A787-9F6627DE783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64240" cy="600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 flipH="1" flipV="1">
            <a:off x="6553080" y="1447920"/>
            <a:ext cx="1447920" cy="7617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762120"/>
            <a:ext cx="1447560" cy="457200"/>
          </a:xfrm>
          <a:prstGeom prst="line">
            <a:avLst/>
          </a:prstGeom>
          <a:ln w="7632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962520" y="1676520"/>
            <a:ext cx="129528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76920" y="2819520"/>
            <a:ext cx="533160" cy="838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273-B27E-43BE-A6F5-65E88A5818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day after walking on the water, Jesus not found in Bethsa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find Jesus at Caperna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sponds to the people by saying “You hunt for me not because of the signs but because you ate of the loaves…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ells them to labor for the food that gives eter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E91-CB3C-4790-AA57-A95A56A7EF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The Work of Go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soon become antagon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sk “What must we do to do the works of God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swer to their question, Jesus tells the multitude the work God would have them do is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lie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One He had 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8AA-2F2E-4F60-A17B-D15E02533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read of Lif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sking for a sign, the people ignored the miracle they had witnessed, the feeding of a vast mu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speak of physical bread (manna), Jesus speaks of spiritual bread saying “I am the bread of lif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3F0-BAC4-4053-9903-AF90CE499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read of Lif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laims to be bread from heaven, the Jews begin to murmur against Hi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nswers “The bread which I shall give is my fles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eats my flesh and drinks my blood has eternal lif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515-6761-4C44-903C-811A7F618FC7}" type="slidenum">
              <a:t>7</a:t>
            </a:fld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“Hard” Say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ollowers said “This is a hard saying. Who can accept it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s point, many of Jesus followers stopped walking with H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sked the twelve “Will you also go away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replied “Lord to whom shall we go? You have the words of eternal lif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DD8-B0D0-49A6-B514-CEDB0D4A80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wish Traditions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to Jesus g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 not want to walk in Judea because there the Jews sought to kill H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had been plots to kill Him at Galilee al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ibes and Pharisees came from Jerusalem asking about their tradition of washing hands before 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67A-5599-43D2-A917-0102EF77A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04:42:06Z</dcterms:created>
  <dc:creator>billy lauderdale</dc:creator>
  <dc:description/>
  <dc:language>en-US</dc:language>
  <cp:lastModifiedBy>Frank D Vines</cp:lastModifiedBy>
  <dcterms:modified xsi:type="dcterms:W3CDTF">2006-09-17T13:40:30Z</dcterms:modified>
  <cp:revision>52</cp:revision>
  <dc:subject/>
  <dc:title>LIFE OF CHRIST</dc:title>
</cp:coreProperties>
</file>